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2E7-69C9-45A6-9215-A1713E6E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A31-F965-4A75-B07F-F602640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F49-74DD-44AE-8305-3CB1AAD9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000-30D1-4C9B-8DB1-61329F0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F39A-7881-413C-BC06-6FBB30E0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2925-1CEB-44DC-A2D9-6DE6BB9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3B8F-B4E5-4675-95E2-B6CA241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F6D7-1092-40AD-BF60-3FF65C6B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91CE-8069-49A0-AFEF-679B0EE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1854-B733-414D-AF39-B5876DC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921D-0864-4795-B208-C53AE9AD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121-1EE8-4ACB-8B89-0C2BB1E2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3158-E7EF-4BA8-A517-789E152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04F-B3F1-4FB0-8F9D-76C0780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F8D-963D-4C34-9E7C-1A6FAD4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D09-2A78-49C0-8924-1362EBF7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1AA-F6D7-499C-A8FD-16661433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E11-FBF5-4482-B218-8B1C744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1CB-2F62-4D3C-A761-00D3BEE5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740-334B-4264-BB72-1060E51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868-E89E-4655-8439-215B1D0B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119-D9C4-485D-A075-29D3C32C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212-0ED0-4AF3-B640-BEB7B1B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0FD-E0E2-43D0-A9E7-F8E7289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2D2-A6AA-45DF-B52C-A133F660D9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9AB-283B-4767-9AAE-C0FEE7F9EE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diserio@fgvsp.br" TargetMode="External"/><Relationship Id="rId3" Type="http://schemas.openxmlformats.org/officeDocument/2006/relationships/hyperlink" Target="mailto:wdamiani@fgvsp.br" TargetMode="External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USINESS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3443040"/>
            <a:ext cx="747864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o montar um Business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92200" cy="103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24360" y="5064840"/>
            <a:ext cx="34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rofs. Luiz C. Di Se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2"/>
              </a:rPr>
              <a:t>ldiserio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Wagner B. Damia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3366"/>
                </a:solidFill>
                <a:uFillTx/>
                <a:latin typeface="Arial Narrow"/>
                <a:hlinkClick r:id="rId3"/>
              </a:rPr>
              <a:t>wdamiani@fgvsp.b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 Narrow"/>
              </a:rPr>
              <a:t>PC-8067-R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ÁRIO EXECU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ósito do Pl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tos e Serviços Ofertado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álise de Marketing – Características e Esco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de Mercado e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dos Financei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 Invest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Empresa – Passado e Pres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bilidades distintas, Singularidade e Proteçã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ÁLISE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ção da Indústria, escopo e tendênci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rfil do Principal Cli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ado-alvo – Penetração de Mercad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écnicas predominantes de Venda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blemas, obstáculos e Oportunidad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quisa de Mercado – Específica e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etição – Forças e Franquez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49628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628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TO E/OU SERVIÇ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nefícios – Satisfação das Necessidades do Client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ágio Atual – Idéia, Protótipo, Pequenas Vendas, Etc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iclo de Vi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riedade Intelectual – Patentes, Comércio Secreto, Etc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2472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RATÉGIA DE MERC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766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para o Cresc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tribuiçã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paganda – Institucional e de Produ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atégia Específica de Ven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451640" y="18900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RAÇÕ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ssoa-Chave – Alocação de Recursos, Principais Forç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dução e/ou Entrega de Serviço – Capacidade Técnica, Custos, Logística, Controle de Qualidade, Economias de Escal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cessidade de Fornecedor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trutura Leg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keholder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pa Organizacion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cursos Human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451640" y="260280"/>
          <a:ext cx="139716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260280"/>
                    <a:ext cx="1397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ANC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pital Necessári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o do Capital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orno dos Investi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ssado e Presente Financeiro – Fluxo de Caixa, Lucro, Prejuízo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jeções Futuras – Fluxo de Caixa, Balanç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licação das Projeções Futura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380360" y="260280"/>
          <a:ext cx="1396800" cy="81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60280"/>
                    <a:ext cx="13968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ÊND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umo dos Gestores-Chav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451640" y="333360"/>
          <a:ext cx="1397160" cy="81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333360"/>
                    <a:ext cx="1397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32:30Z</dcterms:created>
  <dc:creator>Re</dc:creator>
  <dc:description/>
  <dc:language>en-US</dc:language>
  <cp:lastModifiedBy>ldiserio</cp:lastModifiedBy>
  <dcterms:modified xsi:type="dcterms:W3CDTF">2007-03-06T21:02:33Z</dcterms:modified>
  <cp:revision>14</cp:revision>
  <dc:subject/>
  <dc:title>BUSINESS PLAN</dc:title>
</cp:coreProperties>
</file>